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BE0-CC4D-480F-98B9-677A8860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1A2-DEB0-4C42-8646-135A891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4C6-3A58-46FF-9C65-AFF243B0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BD8-EA22-4D63-ADE5-4C0C4DDB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362-6054-42C7-A3E6-297E7E57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BAB-801B-4C77-9D0E-2E037C38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9AF-F64F-47A4-811D-2A3B0E9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629-BF4F-4331-855F-CBA41E37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1B7-59C0-49C1-9F8B-830FE2F1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B90-B8FC-421D-BABF-AD9A9B2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B53-6008-4C02-B9A3-4CB2088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BED-9940-4837-BD6D-22C0ACD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5419-B64A-4D55-8C97-0DA0A0A67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00"/>
                </a:solidFill>
                <a:latin typeface="Brush Script MT"/>
              </a:rPr>
              <a:t>Cornerstone High School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Eras Demi ITC"/>
                <a:ea typeface="Lucida Sans Unicode"/>
              </a:rPr>
              <a:t>Ms. Susheila B. Palatt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  <a:ea typeface="Lucida Sans Unicode"/>
              </a:rPr>
              <a:t>Third year, Chemistry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June 2011 – Marc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newsflash/>
    <p:sndAc>
      <p:stSnd>
        <p:snd r:embed="rId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8" descr="Picture1.jpg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685800" y="1522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Welcome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	</a:t>
            </a: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Chemistry Clas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  <p:sndAc>
      <p:stSnd>
        <p:snd r:embed="rId2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The Structure of Matt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8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Molecules and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 Chemical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ory of Atomic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6" descr="Picture1.jpg"/>
          <p:cNvPicPr/>
          <p:nvPr/>
        </p:nvPicPr>
        <p:blipFill>
          <a:blip r:embed="rId1"/>
          <a:stretch/>
        </p:blipFill>
        <p:spPr>
          <a:xfrm>
            <a:off x="4513320" y="2319480"/>
            <a:ext cx="4173480" cy="385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Important Elements &amp;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their compoun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051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Sodium and Potass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 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able of Common Sa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6" descr="chem2.jpeg"/>
          <p:cNvPicPr/>
          <p:nvPr/>
        </p:nvPicPr>
        <p:blipFill>
          <a:blip r:embed="rId1"/>
          <a:stretch/>
        </p:blipFill>
        <p:spPr>
          <a:xfrm>
            <a:off x="4648320" y="2057400"/>
            <a:ext cx="3886200" cy="3741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lu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Metals &amp; their compoun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52120" y="190512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Zin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Gold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picture 6.jpg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2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10" descr="picture4.jpg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The Importance of Chemist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2057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omposition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 Basis of Chemi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Applications of Chemi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wipe dir="r"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Chemistry quote: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"Remember, if you're not part of the solution, you're part of the precipitate!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Enjoy learning Chemistry and always be part of the solution!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God bless us al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ssolve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8:48:45Z</dcterms:created>
  <dc:creator>janarguitar</dc:creator>
  <dc:description/>
  <dc:language>en-US</dc:language>
  <cp:lastModifiedBy>User </cp:lastModifiedBy>
  <dcterms:modified xsi:type="dcterms:W3CDTF">2011-10-03T18:55:47Z</dcterms:modified>
  <cp:revision>22</cp:revision>
  <dc:subject/>
  <dc:title>Corner Stone High School</dc:title>
</cp:coreProperties>
</file>